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6D33-9815-411F-BBE9-59A9DB03F3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o sinal do numerador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gu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 do denominador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ão coloca si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á casos em que esse sinal será retirado (quando o quociente for zero), isso é feito mais para f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cinza está marcada uma alteração pas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sa é a estapa mais importante e demorada do proces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e slide pulamos alguns passos que são repetições dos mostrados no slides anteri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o o último X, pois ele não encontrou um 0 para transformar em 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lto todos os X´s e a mesma quantidade de Y´s para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pare que neste momento já tenho o resto e o quociente ao final da cade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go os algarismos desnecess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revo ´$´ no f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sloco a resposta para a esqu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ste slide os ´B´s foram deixados de propósito, pois estão nas posições onde estava a resposta no slide a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 + (Quociente X Denominador) = Numer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+ (-3 X 2)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JFlap o ´B´ é um quadradin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figura ficou espalhada para não encavalar os textos das transições e os títulos das funções. Do exemplo anterior, há a seguinte correspondência entre as funções e as operações mostr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. Separação do quociente =&gt; Função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. Determinação do sinal do quociente =&gt; Função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ii. Cálculo da divisão =&gt; Funções_4, _5 e estados q2, q3, q4 e q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v. Limpeza dos campos não-necessários na resposta =&gt; Função_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. Delimitação da cadeia de saída e vi. Deslocamento da resposta à esquerda =&gt; Função_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funções_3 e _7 referem-se a casos especiais que não ocorreram no exemplo most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números negativos são precedidos pelo sinal ´-´ e os positivos não possuem sinal (não há sinal ´+´). O número zero possui um símbolo especial ´@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o dividir? =&gt; Modo mais elementar é subtrair e contar as subtraçõ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os ver rapidamente como seria a solução neste ca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vermelho está ressaltada a última alter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13C-3491-4EE3-B9FC-0A5B9D25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0D8-2AEF-43B7-A1A0-26776D2E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158-92FD-4700-B00A-D47197BB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71E-78B0-43A4-874E-EEDC0EE8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805-2655-4EE3-8A3C-C16590B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B76-8E02-4776-BBC4-BEB7256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4B7-0FA7-4776-8C94-B770B5A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792-0405-410E-A396-83AFD717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5C6-1263-4CEF-A064-D6BB5587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921-A483-476E-9E90-F6005CD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2F5-3B0E-488A-AFB1-00D084C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83E-3E1D-4B21-AD91-DC42A9F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0865-D8C9-4020-AA59-3AB1C319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E:\THIAGO\ITA\Isoladas\CT200-Automata\Projeto\Final\JFLAP.jar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328464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ÃO DE NÚMEROS INT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581360"/>
            <a:ext cx="243360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un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c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llingt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989000"/>
            <a:ext cx="8466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JETO DE MÁQUINA DE TUR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92280"/>
            <a:ext cx="32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3336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t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844640"/>
            <a:ext cx="86407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01-0000000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1-0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1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0320" indent="-371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692280"/>
            <a:ext cx="32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Sum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637000"/>
            <a:ext cx="712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ção 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ção da MT Proje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5800" y="17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Y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abaram os 0´s do num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Y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844640"/>
            <a:ext cx="8640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YYYYYY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86407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BB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BBBBBB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01-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7800" y="11970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ficação 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44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 e implementar uma Máquina de Turing com intuito de efetuar cálculo de divisão de números intei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,y inteiros, separados por um símbol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: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 inteira de x/y e resto de x/y, separados por um símbol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844640"/>
            <a:ext cx="8640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BB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BBBBBB01-000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limitação da cadeia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844640"/>
            <a:ext cx="8640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01-000$BBBBBB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ção d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a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peza dos campos não-necessários na 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mitação da cadeia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locamento da resposta à esqu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7800" y="1197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44640"/>
            <a:ext cx="864072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00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-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-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Resto=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uociente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3418920" y="2563560"/>
            <a:ext cx="216000" cy="7938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592360" y="274464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8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quina de turing projetada tem abrangência para efetuar calculo de Divisão para todos números do conjunto de Inteiros. Considerando símbolos abaixo descri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36920" y="12160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ção da MT projet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{$, 0, 1,  -, @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{$, 0, 1,  -, @, B, #, X, Y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9200" y="4005360"/>
            <a:ext cx="62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:delimitador da cade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: sepa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: sinal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@: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: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: divisão p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: símbolo auxiliar que substitui os algarismos do divi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: símbolo auxiliar que substitui os algarismos do divid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6360" y="3521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1052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a MT Di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20072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1: Escreve símbolo separador ´1´ ao final da cad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4751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2: Determina o sinal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81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3: Divisão com Numerad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09640" y="2724120"/>
            <a:ext cx="5724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148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4: Acrescenta uma unidade a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Escreve ´0´ no final da cad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90840" y="2685960"/>
            <a:ext cx="41623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5: Desfaz substituições de ´X´ e ´Y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5019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8160" y="1197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utilizada a representação un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56000" y="2421000"/>
          <a:ext cx="3455640" cy="3651120"/>
        </p:xfrm>
        <a:graphic>
          <a:graphicData uri="http://schemas.openxmlformats.org/drawingml/2006/table">
            <a:tbl>
              <a:tblPr/>
              <a:tblGrid>
                <a:gridCol w="1536480"/>
                <a:gridCol w="19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6: Apaga o denominador e verifica se o quociente é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47760" y="2367000"/>
            <a:ext cx="8448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7: Trata a Divisão p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81280" y="2809800"/>
            <a:ext cx="5581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Descrição da MT proje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1484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_8: Acrescenta ´$´ao final e Desloca à Esqu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92360" y="1905120"/>
            <a:ext cx="6264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xecução passo a passo de 3 ex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125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ção passo a passo de 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exemplos serão executados direto no jFlap para maior acompanh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236000" y="4724280"/>
          <a:ext cx="43812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4724280"/>
                    <a:ext cx="4381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684360" y="2421000"/>
            <a:ext cx="4752720" cy="3705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590880" y="43657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tar jF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Conclus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125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s entradas testadas o comportamento foi corr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s cadeias inválidas testadas, houve reje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ouro de memória no JFlap: 161/2 OK, 162/2 K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iculdade: utilização das funções no JF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balho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são do sinal positivo ´+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r zero por ´0´ e um por ´00´, suprimindo o símbolo ´@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 algoritmo, mais eficiente/inteligente =&gt; base binária ou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8160" y="119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44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ntrada possui o seguinte form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Delimitador de cadeia&gt;&lt;Denominador&gt;&lt;Separador&gt;&lt;Numerador&gt;BBBB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elimitador de cadeia&gt; =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eparador&gt;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Numerador&gt; e &lt;Denominador&gt; são números inteiros representados na base un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0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-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Especificação do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8160" y="1197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844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aída possui o seguinte form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Delimitador de cadeia&gt;&lt;Resto&gt;&lt;Separador&gt;&lt;Quociente&gt;&lt;Delimitador de cadei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elimitador de cadeia&gt; =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eparador&gt;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Resto&gt; e &lt;Quociente&gt; são números inteiros representados na base unária. No caso de divisão por zero, o &lt;Quociente&gt; assume o valor especial ´#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720" y="1197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éia da Sol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44640"/>
            <a:ext cx="86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ir o denominador do numerador tantas vezes quantas forem possíve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ociente é o número de subtrações reali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to é o valor que sobrar após a última subtração. Assim, t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: 1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– 2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– 2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2 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ubtrações: Quocient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2 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3571920"/>
            <a:ext cx="360360" cy="1297080"/>
          </a:xfrm>
          <a:custGeom>
            <a:avLst/>
            <a:gdLst>
              <a:gd name="textAreaLeft" fmla="*/ 0 w 360360"/>
              <a:gd name="textAreaRight" fmla="*/ 129960 w 360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7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7800" y="119700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ão Geral da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4464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00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nominado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Num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86920" y="159300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592360" y="224136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58680"/>
            <a:ext cx="32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CT-200  Automata e Linguagens For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808080"/>
                </a:solidFill>
                <a:latin typeface="Arial"/>
              </a:rPr>
              <a:t>Prof. Carlos Hen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9228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Visão Geral da Implemen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653904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ojeto de Máquina de Turing – Divisão De Números Int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844640"/>
            <a:ext cx="8640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01-000000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ção do quo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8:25:46Z</dcterms:created>
  <dc:creator>wellingtonn</dc:creator>
  <dc:description/>
  <dc:language>en-US</dc:language>
  <cp:lastModifiedBy>.</cp:lastModifiedBy>
  <dcterms:modified xsi:type="dcterms:W3CDTF">2008-06-24T02:57:33Z</dcterms:modified>
  <cp:revision>58</cp:revision>
  <dc:subject/>
  <dc:title>Slide 1</dc:title>
</cp:coreProperties>
</file>