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13.png" ContentType="image/png"/>
  <Override PartName="/ppt/media/image5.jpeg" ContentType="image/jpeg"/>
  <Override PartName="/ppt/media/image5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922-883E-4DD2-804D-C4FD801A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AC3-1D38-4368-BFAD-DEAB026F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25B-8F49-4B6A-B5D7-21A5D70C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24F-26D5-4112-852C-772EC412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D78C-097D-4E70-B8A6-47DC4ED2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874D-FCBB-4241-8FC0-AF091F5D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9633-F940-4438-82DB-4BE8DA83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D26-8DFE-4FC8-9A16-F507EB1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1A1-44FB-440A-AAE6-890E421C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5A5-9578-4513-A84D-C8BAE0F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A963-3A29-45A3-AC08-E5AE5DAA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096-11AD-4258-98F6-B8A5747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A289-5DA7-4179-B569-0AFCE9BF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A49-CD11-4F50-AC37-43891E3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99C-A5A5-4E25-BDC6-27AD0B25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37A1-25FB-49FA-9566-1121040D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0FC6-9CE0-480C-943A-9C40C02D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411-F7D5-4C49-9252-5670C270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34C-DB15-4A60-B291-947A4A0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244-4643-4893-A160-0CF9A497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58E-D79D-4E0F-A9EB-B019CE0D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6E3-9B2D-42A2-A439-7BE5D8D4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B59-8ECD-48B5-9851-DBA6E61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E9E-354D-405C-8F18-2922D15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ita.b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23736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BF1-EF96-4D3D-AAE5-441E0A806B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00360" y="63752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o Final : CT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8C61-AE37-4EA6-94DF-B3C5CD244C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a.b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a.b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360" y="0"/>
            <a:ext cx="9180360" cy="6885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omador Genérico para Números Inteiro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r. Carlos Henrique Costa Rib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ônio Magno Lima Espesc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ene L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ncisco Supino Marc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briel de Souza P. Mo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68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ITUTO TECNOLÓGICO DE AERONÁ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EC PG/EE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T200 – Fundamentos de Automata e Linguagens For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6280" y="2028960"/>
          <a:ext cx="8286840" cy="3062160"/>
        </p:xfrm>
        <a:graphic>
          <a:graphicData uri="http://schemas.openxmlformats.org/drawingml/2006/table">
            <a:tbl>
              <a:tblPr/>
              <a:tblGrid>
                <a:gridCol w="1906560"/>
                <a:gridCol w="1549440"/>
                <a:gridCol w="2557440"/>
                <a:gridCol w="22734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c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+2=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-2=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-2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+2=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80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escrição formal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,-,0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,-,0,B,M,m,Z,P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ͨ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 sub-rot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4 e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3 transi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JFLAP_MT" descr=""/>
          <p:cNvPicPr/>
          <p:nvPr/>
        </p:nvPicPr>
        <p:blipFill>
          <a:blip r:embed="rId1"/>
          <a:stretch/>
        </p:blipFill>
        <p:spPr>
          <a:xfrm>
            <a:off x="971640" y="2152800"/>
            <a:ext cx="4540320" cy="1825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Ver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JFLAP_MT_VAL_EXP" descr="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JFLAP_MT_ERRO" descr=""/>
          <p:cNvPicPr/>
          <p:nvPr/>
        </p:nvPicPr>
        <p:blipFill>
          <a:blip r:embed="rId1"/>
          <a:stretch/>
        </p:blipFill>
        <p:spPr>
          <a:xfrm>
            <a:off x="933480" y="1860480"/>
            <a:ext cx="59562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276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Cal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JFLAP_MT_CAL_EXP" descr="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S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JFLAP_MT_SOMA" descr="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SUB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JFLAP_MT_SUBTRAI" descr=""/>
          <p:cNvPicPr/>
          <p:nvPr/>
        </p:nvPicPr>
        <p:blipFill>
          <a:blip r:embed="rId1"/>
          <a:stretch/>
        </p:blipFill>
        <p:spPr>
          <a:xfrm>
            <a:off x="0" y="1504800"/>
            <a:ext cx="9144000" cy="41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LI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JFLAP_MT_LIMPO" descr=""/>
          <p:cNvPicPr/>
          <p:nvPr/>
        </p:nvPicPr>
        <p:blipFill>
          <a:blip r:embed="rId1"/>
          <a:stretch/>
        </p:blipFill>
        <p:spPr>
          <a:xfrm>
            <a:off x="603360" y="1612800"/>
            <a:ext cx="473688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JFLAP_MT_ZERO" descr=""/>
          <p:cNvPicPr/>
          <p:nvPr/>
        </p:nvPicPr>
        <p:blipFill>
          <a:blip r:embed="rId1"/>
          <a:stretch/>
        </p:blipFill>
        <p:spPr>
          <a:xfrm>
            <a:off x="946080" y="1530360"/>
            <a:ext cx="41785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umár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800" y="1015920"/>
            <a:ext cx="8242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 Geral da Solução Propo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Formal da MT Proje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os Passos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de 1 Exemplo Bem Suce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1 Exemplo Mal Suce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 Crítica da MT Proje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lusão e Indicações de Melh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525680"/>
            <a:ext cx="3021120" cy="4011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73320" y="1521000"/>
            <a:ext cx="300852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29360" y="1515960"/>
            <a:ext cx="301464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77800"/>
            <a:ext cx="3017880" cy="402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60720" y="1482840"/>
            <a:ext cx="3017880" cy="403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07040" y="1477800"/>
            <a:ext cx="303696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3036960" cy="40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8120" y="1533600"/>
            <a:ext cx="3039840" cy="406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07040" y="1528920"/>
            <a:ext cx="3036960" cy="40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3029040" cy="401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75120" y="1604880"/>
            <a:ext cx="3033720" cy="403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22880" y="1622520"/>
            <a:ext cx="3021120" cy="40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3017880" cy="4044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084480" y="1647720"/>
            <a:ext cx="3011400" cy="400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105600" y="1622520"/>
            <a:ext cx="3038400" cy="40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2998800" cy="401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6320" y="1563840"/>
            <a:ext cx="2998800" cy="3981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132600" y="1512720"/>
            <a:ext cx="3011400" cy="399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487520"/>
            <a:ext cx="3009960" cy="3995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73320" y="1503360"/>
            <a:ext cx="3027600" cy="4027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45200" y="1503360"/>
            <a:ext cx="299880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95440"/>
            <a:ext cx="3009960" cy="3992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060720" y="1503360"/>
            <a:ext cx="3008160" cy="400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32600" y="1528920"/>
            <a:ext cx="3011400" cy="39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508040"/>
            <a:ext cx="2998800" cy="3992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68640" y="1508040"/>
            <a:ext cx="2989440" cy="397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134040" y="1482840"/>
            <a:ext cx="300996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03360"/>
            <a:ext cx="2982960" cy="396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8120" y="1528920"/>
            <a:ext cx="2944800" cy="3916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200640" y="1584360"/>
            <a:ext cx="2943360" cy="39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specificação do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7960" y="901800"/>
            <a:ext cx="854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 algn="just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ar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omador Genérico para Números Inteir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forma de uma Máquina de Turing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just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ntrada é formada por um conju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 1 números na form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número de parcelas a serem som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 algn="just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números inteiros, cada um representando uma d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ce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A saída é formada por um número in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88040" y="5022720"/>
                <a:ext cx="14922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2998800" cy="3989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098880" y="1490760"/>
            <a:ext cx="3002040" cy="397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122880" y="1490760"/>
            <a:ext cx="3021120" cy="40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3011400" cy="4029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98880" y="1457280"/>
            <a:ext cx="3027240" cy="4030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54560" y="1452600"/>
            <a:ext cx="2989440" cy="398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299556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035160" y="1452600"/>
            <a:ext cx="2978280" cy="3989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135840" y="1482840"/>
            <a:ext cx="300816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452600"/>
            <a:ext cx="3033720" cy="4035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73320" y="1469880"/>
            <a:ext cx="3036960" cy="4043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135840" y="1503360"/>
            <a:ext cx="300816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4680" y="1665360"/>
            <a:ext cx="42145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080" y="1600200"/>
            <a:ext cx="895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inas de tratamento de erro tratam exemplos mal suce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possível simular um erro não tratado limitando a quantidade de memória disponível: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-Xm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00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-classpath ";JFLAP.jar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jar JFLAP.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do 1MB e mandando somar 200 parcelas unitárias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do 1MB e mandando somar 200 parcelas unitárias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65320" y="1552680"/>
            <a:ext cx="45054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ndo 600MB e mandando somar 200 parcelas unitári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JFLAP gera mais de 128000 configuraçõ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hega ao resultado corre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Versão da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33480" y="1711440"/>
            <a:ext cx="7169040" cy="44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specificação do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6868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é o sinal d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76240" y="2297160"/>
                <a:ext cx="80391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t xml:space="preserve">⋯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00040" y="4052880"/>
                <a:ext cx="2600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tivo entre versões inicial 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subrotinas com reaproveitamento de código e tratamento de er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19080" y="1752480"/>
          <a:ext cx="4505400" cy="25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752480"/>
                    <a:ext cx="450540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063800"/>
          <a:ext cx="103726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3800"/>
                    <a:ext cx="103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Conclusão e Indicações de Melhor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i feito, com sucesso, o projeto e a implementação de uma MT que soluciona o problema espec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íveis Melhor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r números em binário, representando os inteiros negativos com complemento de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binário, há apenas a rotina de S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ós desenvolver somador em binário, extender a máquina para tratar números em ponto flutu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-36360" y="0"/>
            <a:ext cx="9180360" cy="6885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omador Genérico para Números Inteiro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r. Carlos Henrique Costa Rib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ônio Magno Lima Espesc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ene L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ncisco Supino Marc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briel de Souza P. Mo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968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ITUTO TECNOLÓGICO DE AERONÁ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EC PG/EE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T200 – Fundamentos de Automata e Linguagens For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96960" y="3627360"/>
                <a:ext cx="81262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1480" y="4965840"/>
            <a:ext cx="1866960" cy="609480"/>
          </a:xfrm>
          <a:prstGeom prst="wedgeRectCallout">
            <a:avLst>
              <a:gd name="adj1" fmla="val -44217"/>
              <a:gd name="adj2" fmla="val -140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440" y="3467160"/>
            <a:ext cx="157500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120760" y="5143680"/>
            <a:ext cx="2730600" cy="914400"/>
          </a:xfrm>
          <a:prstGeom prst="wedgeRectCallout">
            <a:avLst>
              <a:gd name="adj1" fmla="val -53486"/>
              <a:gd name="adj2" fmla="val -128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2800" y="3467160"/>
            <a:ext cx="81288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457880" y="5194440"/>
            <a:ext cx="2286000" cy="914400"/>
          </a:xfrm>
          <a:prstGeom prst="wedgeRectCallout">
            <a:avLst>
              <a:gd name="adj1" fmla="val 8055"/>
              <a:gd name="adj2" fmla="val -125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las a Proces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47840" y="3517920"/>
            <a:ext cx="668016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término d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36480" y="3639960"/>
                <a:ext cx="1449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1:52:16Z</dcterms:created>
  <dc:creator>.</dc:creator>
  <dc:description/>
  <dc:language>en-US</dc:language>
  <cp:lastModifiedBy>Silvia Helena Paes Barreto</cp:lastModifiedBy>
  <dcterms:modified xsi:type="dcterms:W3CDTF">2008-06-24T04:47:18Z</dcterms:modified>
  <cp:revision>44</cp:revision>
  <dc:subject/>
  <dc:title>Somador genérico para números inteiros</dc:title>
</cp:coreProperties>
</file>