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13.png" ContentType="image/png"/>
  <Override PartName="/ppt/media/image5.jpeg" ContentType="image/jpe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43D-C5B4-4C5B-A40F-6FE39DF1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883-92AC-4553-B0B4-4AD871C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C86-C75B-43D1-9917-B95E611C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DDE-07FC-4FF3-BA89-2FAC28B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9231-33F1-4092-AEB7-6E0EDEA1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F1A1-943B-482E-9F4D-10A454E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C80B-9353-4997-99E1-50DA5DF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122-4BFF-4C80-B6F2-F73D92A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807A-40AD-4CC1-9B08-FBA1A3D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745-440E-4A79-AAAE-EAC20D0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B94D-EFD0-4771-BE86-53E52C4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39B-9622-497D-B95E-D076EE60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125-CF23-4456-A4F0-C933ECE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F6E3-08CA-4DC4-9858-203A432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AF9D-CF4B-42DD-B960-AAD32E6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B4F-A158-4E17-8D84-2871C2BD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20F-8E9C-41E0-BFB5-3AFF9CD1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8D7-FCDA-499D-B2DE-617D6F7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B27-7907-44F0-86C7-BEB8E3E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8B1-AA2B-4395-81E0-EE82800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CFC-5C52-4AF2-8D50-02EA49D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10A-FF26-42B8-ACE0-D55FA0D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484-5469-4EF3-A3C3-A47BE5E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472-A20B-47BE-9A84-C95543D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ita.b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3736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F25-96B5-47BA-A7F2-B142D209A3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00360" y="63752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o Final : CT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652-2782-4AA8-992B-D3C5556826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a.b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6280" y="2028960"/>
          <a:ext cx="8286840" cy="3062160"/>
        </p:xfrm>
        <a:graphic>
          <a:graphicData uri="http://schemas.openxmlformats.org/drawingml/2006/table">
            <a:tbl>
              <a:tblPr/>
              <a:tblGrid>
                <a:gridCol w="1906560"/>
                <a:gridCol w="1549440"/>
                <a:gridCol w="2557440"/>
                <a:gridCol w="22734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c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+2=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-2=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-2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+2=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8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ção formal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,-,0,B,M,m,Z,P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ͨ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 sub-rot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4 e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3 transi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JFLAP_MT" descr=""/>
          <p:cNvPicPr/>
          <p:nvPr/>
        </p:nvPicPr>
        <p:blipFill>
          <a:blip r:embed="rId1"/>
          <a:stretch/>
        </p:blipFill>
        <p:spPr>
          <a:xfrm>
            <a:off x="971640" y="2152800"/>
            <a:ext cx="4540320" cy="1825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Ver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JFLAP_MT_VAL_EXP" descr="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JFLAP_MT_ERRO" descr=""/>
          <p:cNvPicPr/>
          <p:nvPr/>
        </p:nvPicPr>
        <p:blipFill>
          <a:blip r:embed="rId1"/>
          <a:stretch/>
        </p:blipFill>
        <p:spPr>
          <a:xfrm>
            <a:off x="933480" y="1860480"/>
            <a:ext cx="5956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2760" y="93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CalE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JFLAP_MT_CAL_EXP" descr="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JFLAP_MT_SOMA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SUB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JFLAP_MT_SUBTRAI" descr="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41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LI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JFLAP_MT_LIMPO" descr=""/>
          <p:cNvPicPr/>
          <p:nvPr/>
        </p:nvPicPr>
        <p:blipFill>
          <a:blip r:embed="rId1"/>
          <a:stretch/>
        </p:blipFill>
        <p:spPr>
          <a:xfrm>
            <a:off x="603360" y="1612800"/>
            <a:ext cx="473688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Descrição dos Passos do Proje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rotina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JFLAP_MT_ZERO" descr=""/>
          <p:cNvPicPr/>
          <p:nvPr/>
        </p:nvPicPr>
        <p:blipFill>
          <a:blip r:embed="rId1"/>
          <a:stretch/>
        </p:blipFill>
        <p:spPr>
          <a:xfrm>
            <a:off x="946080" y="1530360"/>
            <a:ext cx="41785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umár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015920"/>
            <a:ext cx="8242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 Geral da Solução Propo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Formal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os Passos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de 1 Exemplo Bem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ção 1 Exemplo Mal Suce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Crítica da MT Proje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lusão e Indicações de Melh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525680"/>
            <a:ext cx="3021120" cy="4011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73320" y="1521000"/>
            <a:ext cx="300852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29360" y="1515960"/>
            <a:ext cx="301464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77800"/>
            <a:ext cx="3017880" cy="402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60720" y="1482840"/>
            <a:ext cx="3017880" cy="403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07040" y="1477800"/>
            <a:ext cx="303696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3036960" cy="40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8120" y="1533600"/>
            <a:ext cx="3039840" cy="406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07040" y="1528920"/>
            <a:ext cx="303696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3029040" cy="401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75120" y="1604880"/>
            <a:ext cx="3033720" cy="403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22880" y="1622520"/>
            <a:ext cx="3021120" cy="40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3017880" cy="4044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084480" y="1647720"/>
            <a:ext cx="3011400" cy="400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05600" y="1622520"/>
            <a:ext cx="3038400" cy="40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2998800" cy="401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6320" y="1563840"/>
            <a:ext cx="2998800" cy="398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132600" y="1512720"/>
            <a:ext cx="3011400" cy="39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487520"/>
            <a:ext cx="3009960" cy="3995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73320" y="1503360"/>
            <a:ext cx="3027600" cy="4027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45200" y="1503360"/>
            <a:ext cx="299880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3009960" cy="3992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60720" y="1503360"/>
            <a:ext cx="3008160" cy="400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32600" y="1528920"/>
            <a:ext cx="3011400" cy="39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508040"/>
            <a:ext cx="2998800" cy="3992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68640" y="1508040"/>
            <a:ext cx="2989440" cy="39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34040" y="1482840"/>
            <a:ext cx="300996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2982960" cy="396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8120" y="1528920"/>
            <a:ext cx="2944800" cy="3916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00640" y="1584360"/>
            <a:ext cx="2943360" cy="39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7960" y="901800"/>
            <a:ext cx="854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omador Genérico para Números Inteir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forma de uma Máquina de Turing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just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ntrada é formada por um conju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 1 números na form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número de parcelas a serem so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 algn="just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números inteiros, cada um representando uma d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ce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A saída é formada por um número in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88040" y="5022720"/>
                <a:ext cx="14922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2998800" cy="398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98880" y="1490760"/>
            <a:ext cx="3002040" cy="397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122880" y="1490760"/>
            <a:ext cx="302112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3011400" cy="4029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98880" y="1457280"/>
            <a:ext cx="3027240" cy="4030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54560" y="1452600"/>
            <a:ext cx="2989440" cy="39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299556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035160" y="1452600"/>
            <a:ext cx="2978280" cy="3989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135840" y="1482840"/>
            <a:ext cx="300816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452600"/>
            <a:ext cx="3033720" cy="4035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73320" y="1469880"/>
            <a:ext cx="3036960" cy="4043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135840" y="1503360"/>
            <a:ext cx="300816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Bem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2400" y="939600"/>
            <a:ext cx="66927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=1-2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4680" y="1665360"/>
            <a:ext cx="42145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080" y="1600200"/>
            <a:ext cx="895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inas de tratamento de erro tratam exemplos mal suce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possível simular um erro não tratado limitando a quantidade de memória disponível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-Xm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600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classpath ";JFLAP.jar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jar JFLAP.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do 1MB e mandando somar 200 parcelas unitárias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65320" y="1552680"/>
            <a:ext cx="45054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4880" y="2743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xecução de 1 Exemplo Mal Suced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ndo 600MB e mandando somar 200 parcelas unitári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JFLAP gera mais de 128000 configuraçõ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hega ao resultado corre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Versão da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33480" y="1711440"/>
            <a:ext cx="7169040" cy="44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Especificação do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686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é o sinal d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76240" y="2297160"/>
                <a:ext cx="80391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t xml:space="preserve">⋯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00040" y="4052880"/>
                <a:ext cx="2600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tivo entre versões inicial 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subrotinas com reaproveitamento de código e tratamento de er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19080" y="1752480"/>
          <a:ext cx="4505400" cy="25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52480"/>
                    <a:ext cx="450540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063800"/>
          <a:ext cx="103726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3800"/>
                    <a:ext cx="103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Análise Crítica da MT Projeta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Conclusão e Indicações de Melhori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 feito, com sucesso, o projeto e a implementação de uma MT que soluciona o problema espec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íveis Melhor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números em binário, representando os inteiros negativos com complemento de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binário, há apenas a rotina de 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ós desenvolver somador em binário, extender a máquina para tratar números em ponto flutu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-36360" y="0"/>
            <a:ext cx="9180360" cy="688500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omador Genérico para Números Inteiro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r. Carlos Henrique Costa Rib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ônio Magno Lima Espesc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ene L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ncisco Supino Marc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briel de Souza P. Mo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968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ITUTO TECNOLÓGICO DE AERONÁ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EC PG/EEC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T200 – Fundamentos de Automata e Linguagens For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0"/>
            <a:ext cx="1440000" cy="547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44360" y="6375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96960" y="3627360"/>
                <a:ext cx="81262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1480" y="4965840"/>
            <a:ext cx="1866960" cy="609480"/>
          </a:xfrm>
          <a:prstGeom prst="wedgeRectCallout">
            <a:avLst>
              <a:gd name="adj1" fmla="val -44217"/>
              <a:gd name="adj2" fmla="val -140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440" y="3467160"/>
            <a:ext cx="157500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120760" y="5143680"/>
            <a:ext cx="2730600" cy="914400"/>
          </a:xfrm>
          <a:prstGeom prst="wedgeRectCallout">
            <a:avLst>
              <a:gd name="adj1" fmla="val -53486"/>
              <a:gd name="adj2" fmla="val -128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2800" y="3467160"/>
            <a:ext cx="81288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1880" y="3627360"/>
                <a:ext cx="8124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457880" y="5194440"/>
            <a:ext cx="2286000" cy="914400"/>
          </a:xfrm>
          <a:prstGeom prst="wedgeRectCallout">
            <a:avLst>
              <a:gd name="adj1" fmla="val 8055"/>
              <a:gd name="adj2" fmla="val -125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celas a Proces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47840" y="3517920"/>
            <a:ext cx="6680160" cy="120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52560"/>
            <a:ext cx="86868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eia de entrada 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término do processamento a cadeia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Visão Geral da Solução Propos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76440" y="1747800"/>
                <a:ext cx="6933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36480" y="3639960"/>
                <a:ext cx="1449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1:52:16Z</dcterms:created>
  <dc:creator>.</dc:creator>
  <dc:description/>
  <dc:language>en-US</dc:language>
  <cp:lastModifiedBy>Silvia Helena Paes Barreto</cp:lastModifiedBy>
  <dcterms:modified xsi:type="dcterms:W3CDTF">2008-06-24T04:47:18Z</dcterms:modified>
  <cp:revision>44</cp:revision>
  <dc:subject/>
  <dc:title>Somador genérico para números inteiros</dc:title>
</cp:coreProperties>
</file>