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DC29-8C1B-40E9-A17E-481465F29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29AE-EBD7-4510-BDAC-D0A55A3E5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D293-26D3-4DFA-B9C6-8D3E2F53A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276C-4B12-44B5-BBBC-B7E978B49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3623A-39DB-456E-AC58-19B1BF1E2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97DE8-1774-49CE-BDA4-7A9240E56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8790C-CB89-442E-94F1-3A5892A4E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F796B-C222-4D37-B479-CDCDF7B4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417EB-7A90-4EAA-AF43-6A3CC0344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11789-BE0B-4EFF-BD73-1EB70FE10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CC421-CF58-4AF7-B30D-29B3B720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45B7-B6C7-4AF7-8604-E0DD0F124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85D3D-6513-4469-A2B8-40C847B7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CCB77-7438-49A2-8FEB-EF81D843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E37C9-A4FA-491D-8645-B30084AF5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439B9-6F83-40FE-BDDC-BA0CF9411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7CA98-BE72-45FE-AEC3-D37B9FCD2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AC97-4B0E-491C-AE3C-9928D6756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7F18-3202-4429-8150-0B818C29D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AF4E-9959-48CD-AFFC-25CE28E1E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1D9B-B370-4DD1-B1AD-E1068F066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2DFA-E2F2-46E8-95B3-3C44BB36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746D-7544-4F86-872E-06F309F7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552A-0FC5-4970-B5FB-C35416A3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1CAC5-C099-42F1-B62E-08DBCB41179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DB7E4-EB4A-4AA9-938D-23F3223DBB4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ccecff"/>
                </a:solidFill>
                <a:latin typeface="Arial"/>
              </a:rPr>
              <a:t>Projeto: Subtrator de Números Inteir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32000" y="3860640"/>
            <a:ext cx="640080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Disciplina: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Fundamentos de Autômato e Linguagens Formais - CT200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rofessor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Dr. Carlos Henrique Costa Ribeiro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Equipe de alunos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Bernardo de Pádua dos Santo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Hilário dos Santos Neto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reza Lutércia Saraiva Lin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Maurício Pozzobon Martin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2267640" y="1052640"/>
            <a:ext cx="42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stituto Tecnológico de Aeronáut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visão de Ciência da Computaç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780000" y="476280"/>
            <a:ext cx="135252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senvolvimen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pós essa validação, aciona-se a máquina de Turing que realiza a subtração de dois inteiros. A cada iteração, a máquina desloca a cabeça de leitura até o final da segunda cadeia de entrada, lê o último símbolo da cadeia e apaga-o. Se este símbolo for um "1", sabemos que a segunda cadeia é positiva, se for um "0", que é negativa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senvolvimen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stratégia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- A cada iteração, a máquina desloca a   cabeça de leitura até o final da segunda cadeia de entrada, lê o último símbolo da cadeia e apaga-o. Se este símbolo for um "1", sabemos que a segunda cadeia é positiva, se for um "0", que é negativa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- Dessa maneira, a máquina desloca a cabeça de leitura até o início da primeira  cadeia, lê seu primeiro símbolo e prossegue da seguinte forma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- Se a primeira cadeia for negativa, e a segunda positiva, adiciona um "0" à primeira cadeia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- Se a primeira e a segunda cadeias forem negativas, remove um "0" da primeira cadeia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- Se a primeira cadeia for positiva e a segunda negativa, adiciona um "1" à primeira cadeira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- Se a primeira e segunda cadeias forem positivas, remove um "1" da primeira cadeia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 máquina prossegue com estas iterações até que a segunda cadeia se extingue. Aí, a máquina remove o sinal de "-", e retorna a cabeça de leitura ao início da primeira cadeia, que passa a ser o resultado da operação.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senvolvimen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Descrição formal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Para o subtrator desenvolvido no projeto, temos os seguintes valores de especificação da máquina de Turing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Q = {q1, q2, q3, q4, sub0, sub1, sub2, soma0, soma1, soma2}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Γ</a:t>
            </a:r>
            <a:r>
              <a:rPr b="0" lang="da-DK" sz="1800" spc="-1" strike="noStrike">
                <a:solidFill>
                  <a:srgbClr val="ffffff"/>
                </a:solidFill>
                <a:latin typeface="Verdana"/>
              </a:rPr>
              <a:t> = {0, 1, -, B(blank)}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da-DK" sz="1800" spc="-1" strike="noStrike">
                <a:solidFill>
                  <a:srgbClr val="ffffff"/>
                </a:solidFill>
                <a:latin typeface="Verdana"/>
              </a:rPr>
              <a:t>q0 = q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da-DK" sz="1800" spc="-1" strike="noStrike">
                <a:solidFill>
                  <a:srgbClr val="ffffff"/>
                </a:solidFill>
                <a:latin typeface="Verdana"/>
              </a:rPr>
              <a:t>F = {q4}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A Figura 2 apresenta o Diagrama de Transição do Subtrator, desenvolvido em JFLAP.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agrama de Transiçã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71480" y="1600200"/>
            <a:ext cx="76010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cecff"/>
                </a:solidFill>
                <a:latin typeface="Arial"/>
              </a:rPr>
              <a:t>Execução passo-a-pass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xemplo - Conteúdo inicial da fita: 00-1, equivalente à operação em números decimais -2-1; resultado esperado: 000, ou -3 em decimai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15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1187280" y="2349360"/>
          <a:ext cx="2986200" cy="450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349360"/>
                    <a:ext cx="2986200" cy="45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284720" y="1773360"/>
          <a:ext cx="3095640" cy="313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1773360"/>
                    <a:ext cx="3095640" cy="31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284720" y="4941720"/>
          <a:ext cx="3095640" cy="191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84720" y="4941720"/>
                    <a:ext cx="3095640" cy="19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clusã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Este trabalho teve por objetivo implementar, no aplicativo JFLAP, uma máquina de Turing para subtrair dois números inteiros x e y, de maneira que a entrada do sistema fosse x e y inteiros, separados por um símbolo específico, e a saída seja x – y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Amadurecimento de idéias para se chegar a estrutura compacta e eficient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Recomendações: subtrator de n inteiros e subtrator de binário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Referências Bibliográfic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[1] Sudkamp, T. A. Languages and Machines – An introduction to the Theory of Computer Science. 2nd Ed. Addison-Wesley. 1997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[2] Sipser, M. Introduction to the Theory of Computation, 2nd Ed., Thomson Course Technology, 2006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oteir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Motivaçã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Especificação do problema e objetiv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Escop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Especificação de Requisito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Desenvolviment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Descriçã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Diagrama de Transiçã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Execução passo-a-pass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Conclusã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tivaçã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O estudo da Computabilidade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O que é um algoritmo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Quais são as capacidades e limitações da computação algorítmica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Exigência de um modelo formal de computação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Máquina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de Tur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O processamento de um computador pode ser simulado por uma seqüência apropriada de Máquinas de Turing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Especificação do Problema e Objetiv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 problema consiste em modelar uma máquina de Turing que subtraia dois números inteiros. Portanto, o objetivo deste projeto é implementar uma máquina de Turing para subtrair dois números inteiros x e y, de maneira que a entrada do sistema seja: x e y inteiros, separados por um símbolo específico, e a saída seja x – y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scop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ara representar os números inteiros, escolhemos a representação unária. Para representar inteiros positivos, utiliza-se o algarismo "1". O número de "1"s concatenados representa a magnitude do número. O número 0 é representado pela cadeia vazia "". Números negativos são representados de forma análoga aos números positivos, mas utilizando-se o algarismo "0"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specificação de Requisit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máquina de Turing foi implementada seguindo um conjunto de requisitos arquitetados pelo grupo de desenvolvimento com o intuito de apresentar robustez e coerência. Tais requisitos são apresentados a segui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specificação de Requisit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752480" indent="-380880">
              <a:spcBef>
                <a:spcPts val="601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ceitar como entrada dois números inteiros na forma unária especificada no item "Escopo", separados pelo sinal de menos ("-"). Por exemplo, "11111-0000"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752480" indent="-380880">
              <a:spcBef>
                <a:spcPts val="601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er a cabeça de leitura posicionada no início do primeiro número antes do cálcul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752480" indent="-380880">
              <a:spcBef>
                <a:spcPts val="601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er a cabeça de leitura posicionada no início do resultado após o cálcul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128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specificação de Requisit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86979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3" marL="1519920" indent="-217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Escrever o resultado da operação na fita, na forma unário especificada anteriormente, sobrescrevendo as entradas. Por exemplo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51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tendo-se "111-11" inicialmente na fita teremos "1" na fita após o cálcul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519920" indent="-217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O número 0 será caracterizado pela ausência de 1’s e 0’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519920" indent="-217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Se um ou ambos os termos da subtração contiverem mistura de 0's e 1's a cadeia de entrada será rejeitad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519920" indent="-217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-000 é aceito (0-(-3)), 111- também (3-0), mas 000 não. Precisa haver o sinal de meno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519920" indent="-217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Cadeia com apenas “-” deve ser aceita (0-0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senvolvimen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ntes da operação de subtração da máquina de Turing, efetua-se uma validação da cadeia de entrada, verificando se há 0’s e/ou 1’s misturados, como mostra a figura abaixo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763640" y="3141720"/>
            <a:ext cx="56880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3T19:20:47Z</dcterms:created>
  <dc:creator>Mauricio</dc:creator>
  <dc:description/>
  <dc:language>en-US</dc:language>
  <cp:lastModifiedBy>Mauricio</cp:lastModifiedBy>
  <dcterms:modified xsi:type="dcterms:W3CDTF">2008-06-25T14:21:29Z</dcterms:modified>
  <cp:revision>19</cp:revision>
  <dc:subject/>
  <dc:title>Projeto: Subtrador de Números Inteiros</dc:title>
</cp:coreProperties>
</file>