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07D-58F0-44DB-8A97-3FE4A7ED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03B-6766-41F8-9353-B102A5A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11B-6984-4583-B004-AA89A11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4C1-625E-4002-AD4F-293951B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ECC0-2C98-47D3-99F7-CA7C6CC6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E28D-9CDD-417F-BB89-35EA6CAE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F4D-2E52-40D7-812F-CA06F317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C0D-1A0F-4740-A400-319E0375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0604-8B34-43B0-9785-2390CABA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964-1B75-495E-94FF-CEEE9EFA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1BA0-2EBF-449F-8B35-0B7749A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D6B-B1A6-4C58-87BA-0622F2C9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A0F-77EA-449A-A56F-067D0BE6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72E1-4B08-4A76-81C5-9033B9C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C3A-A96F-4731-B9EC-45DB234D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39BF-77C0-4408-BA8B-E55DC99C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F818-4C52-4C0D-A1C7-29130935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197-CBB1-41CC-A845-D35BC08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54D-613F-4EAC-8790-0CBA37F5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27C-88EE-413B-989F-D1CC5DD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2FA-904B-4574-A016-38FC7C31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EE1-AC3C-4D96-8A6D-3A34812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B04-5E86-4AA8-B1B4-D4E22C1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1C3-8EDF-45A9-BB39-6D92B8C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A39-B9F2-42E9-A751-3124742E3AD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FA5E-5E4B-48A9-9FEB-F3A6E62B61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ccecff"/>
                </a:solidFill>
                <a:latin typeface="Arial"/>
              </a:rPr>
              <a:t>Projeto: Subtrator de Números Inteir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sciplina: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undamentos de Autômato e Linguagens Formais - CT20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fess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r. Carlos Henrique Costa Ribeir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quipe de alunos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rnardo de Pádua dos Sant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ilário dos Santos Net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reza Lutércia Saraiva L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urício Pozzobon Marti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267640" y="105264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Tecnológico de Aeronáu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ão de Ciência da Compu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135252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ós essa validação, aciona-se a máquina de Turing que realiza a subtração de dois inteiros. A cada iteração, a máquina desloca a cabeça de leitura até o final da segunda cadeia de entrada, lê o último símbolo da cadeia e apaga-o. Se este símbolo for um "1", sabemos que a segunda cadeia é positiva, se for um "0", que é negativ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ratégi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A cada iteração, a máquina desloca a   cabeça de leitura até o final da segunda cadeia de entrada, lê o último símbolo da cadeia e apaga-o. Se este símbolo for um "1", sabemos que a segunda cadeia é positiva, se for um "0", que é negativ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Dessa maneira, a máquina desloca a cabeça de leitura até o início da primeira  cadeia, lê seu primeiro símbolo e prossegue da seguinte forma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negativa, e a segunda positiva, adiciona um "0" à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a segunda cadeias forem negativas, remove um "0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cadeia for positiva e a segunda negativa, adiciona um "1" à primeira cadeir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Se a primeira e segunda cadeias forem positivas, remove um "1" da primeira cade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máquina prossegue com estas iterações até que a segunda cadeia se extingue. Aí, a máquina remove o sinal de "-", e retorna a cabeça de leitura ao início da primeira cadeia, que passa a ser o resultado da operação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crição form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a o subtrator desenvolvido no projeto, temos os seguintes valores de especificação da máquina de Tur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Q = {q1, q2, q3, q4, sub0, sub1, sub2, soma0, soma1, soma2}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Γ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 = {0, 1, -, B(blank)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q0 = q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F = {q4}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Figura 2 apresenta o Diagrama de Transição do Subtrator, desenvolvido em JFLAP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agrama de Transi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71480" y="1600200"/>
            <a:ext cx="7601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Arial"/>
              </a:rPr>
              <a:t>Execução passo-a-pas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o - Conteúdo inicial da fita: 00-1, equivalente à operação em números decimais -2-1; resultado esperado: 000, ou -3 em decimai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2349360"/>
          <a:ext cx="298620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29862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4720" y="1773360"/>
          <a:ext cx="309564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773360"/>
                    <a:ext cx="309564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284720" y="4941720"/>
          <a:ext cx="3095640" cy="191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4941720"/>
                    <a:ext cx="30956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te trabalho teve por objetivo implementar, no aplicativo JFLAP, uma máquina de Turing para subtrair dois números inteiros x e y, de maneira que a entrada do sistema fosse x e y inteiros, separados por um símbolo específico, e a saída seja x – 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madurecimento de idéias para se chegar a estrutura compacta e efici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comendações: subtrator de n inteiros e subtrator de binári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eferências Bibliográf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1] Sudkamp, T. A. Languages and Machines – An introduction to the Theory of Computer Science. 2nd Ed. Addison-Wesley. 1997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2] Sipser, M. Introduction to the Theory of Computation, 2nd Ed., Thomson Course Technology, 200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otiv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o problema e objeti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cop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ificação de Requisi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senvolvim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iagrama de Trans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cução passo-a-pas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onclus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estudo da Computabilida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que é um algoritm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ais são as capacidades e limitações da computação algorítmi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xigência de um modelo formal de computação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áquina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e Tu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processamento de um computador pode ser simulado por uma seqüência apropriada de Máquinas de Tur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pecificação do Problema e Objet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problema consiste em modelar uma máquina de Turing que subtraia dois números inteiros. Portanto, o objetivo deste projeto é implementar uma máquina de Turing para subtrair dois números inteiros x e y, de maneira que a entrada do sistema seja: x e y inteiros, separados por um símbolo específico, e a saída seja x –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cop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representar os números inteiros, escolhemos a representação unária. Para representar inteiros positivos, utiliza-se o algarismo "1". O número de "1"s concatenados representa a magnitude do número. O número 0 é representado pela cadeia vazia "". Números negativos são representados de forma análoga aos números positivos, mas utilizando-se o algarismo "0"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áquina de Turing foi implementada seguindo um conjunto de requisitos arquitetados pelo grupo de desenvolvimento com o intuito de apresentar robustez e coerência. Tais requisitos são apresentados a segui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eitar como entrada dois números inteiros na forma unária especificada no item "Escopo", separados pelo sinal de menos ("-"). Por exemplo, "11111-0000"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primeiro número antes d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r a cabeça de leitura posicionada no início do resultado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pecificação de Requisi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9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screver o resultado da operação na fita, na forma unário especificada anteriormente, sobrescrevendo as entradas. Por exemplo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ndo-se "111-11" inicialmente na fita teremos "1" na fita após o cálcu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 número 0 será caracterizado pela ausência de 1’s e 0’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 um ou ambos os termos da subtração contiverem mistura de 0's e 1's a cadeia de entrada será rejeita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-000 é aceito (0-(-3)), 111- também (3-0), mas 000 não. Precisa haver o sinal de me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519920" indent="-217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deia com apenas “-” deve ser aceita (0-0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envolv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tes da operação de subtração da máquina de Turing, efetua-se uma validação da cadeia de entrada, verificando se há 0’s e/ou 1’s misturados, como mostra a figura abaix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5688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9:20:47Z</dcterms:created>
  <dc:creator>Mauricio</dc:creator>
  <dc:description/>
  <dc:language>en-US</dc:language>
  <cp:lastModifiedBy>Mauricio</cp:lastModifiedBy>
  <dcterms:modified xsi:type="dcterms:W3CDTF">2008-06-25T14:21:29Z</dcterms:modified>
  <cp:revision>19</cp:revision>
  <dc:subject/>
  <dc:title>Projeto: Subtrador de Números Inteiros</dc:title>
</cp:coreProperties>
</file>